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28B-E747-47EF-ACF8-A0302735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FC0-B20E-4B85-B057-E06882F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A11-2BE3-44C2-80AF-A15AAEA7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DAD-5669-4ABC-92E8-D8426BBB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470-9369-4CB9-9558-B2DB2F2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3E6-0E7D-4DAE-8D61-E0C5604E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7BF-2395-4150-B830-2B48E82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F77-BCBA-4C9B-830E-D11C8E5E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CC0-5134-4EAA-9FB0-F187C38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E12-2B25-4B79-842D-7800F2B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F1F-1AC6-45CB-9D37-056C4E7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F08-EBB2-4B14-913E-C5680BA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F71-6117-45B7-B255-06DD151B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rs use the white space on a page in order to determine how their poem will look and s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s use white space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break in the information or thought of a st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the poem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 reader to stop and reflect after a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oem look more or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f the poem’s final line and give mo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out a line by surrounding it in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nk about how poems can look differently if the white space is used in a different 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432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Lawnm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lawnm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inds its tee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ver the gr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pitting out a th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een Sp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Its head is too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f iron and o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kn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What it th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lawn’s who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rop of ch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of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elicio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een h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w look at the same poem as the author intended it to look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66920" y="533160"/>
            <a:ext cx="2590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Lawnm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lawnm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inds its tee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ver the gr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pitting out th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een Sp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Its head is too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f iron and 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What it th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w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lawn’s w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rop of ch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Sof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elic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Green h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you think the author chose to space the poem the way she d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7T06:43:57Z</dcterms:created>
  <dc:creator>AAPS</dc:creator>
  <dc:description/>
  <dc:language>en-US</dc:language>
  <cp:lastModifiedBy>AAPS</cp:lastModifiedBy>
  <dcterms:modified xsi:type="dcterms:W3CDTF">2006-03-09T03:29:22Z</dcterms:modified>
  <cp:revision>3</cp:revision>
  <dc:subject/>
  <dc:title>White Space</dc:title>
</cp:coreProperties>
</file>